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9780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84400" y="698040"/>
            <a:ext cx="46512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97800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985D-52BA-4186-85E9-57041FB0E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FD55-7089-4534-979C-3F90A02397C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C8DA-DCF7-4FDD-A4D9-5A8A080ED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7BE6-F105-4A72-9CEB-88D72D3B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507E-CF4E-4EB0-BCDE-E6EF76C1F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3A53-8BA1-4472-A540-FCB14C36A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F12F-D9C9-46C1-8835-6A8122CEA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19B0-2A85-4448-83B0-5E900100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ADE5-1042-4004-9E3A-9AEF5793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AAA2-1122-419F-8042-6A777C8B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6EB8-1F35-42E4-A847-67267A08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7EB8-D1C7-4829-83CE-C01CD540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6155-86B2-4965-9401-B8622199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44B9-C59A-40B0-98CD-E9516F0C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E3DF-9132-4B8F-8181-9F1B5928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F654-D65A-493E-AD28-643A7716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35D8-C173-4916-BBAC-D0597380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9D97-C6FD-4798-9F89-6D73CE5E5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CCA5-D616-419A-AB59-F1EE49878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F513-98EA-491E-9DB0-E6B61CB1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EEB5-3C58-49F0-950B-BE62A478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9ECF-6ED4-4CB4-AEA6-39A0F53F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3A2A-76C3-41D6-85B7-C7A7126D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9426-D4E8-4F37-856C-30106D4A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C126-39AE-489D-ADB1-1F290069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139C-0526-48ED-9CFE-21CEC703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5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222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122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123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124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125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126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127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28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29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30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31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32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33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34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35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36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37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138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139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140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141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142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143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144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145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146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147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148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149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150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151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152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153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154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155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156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157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158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159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160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161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162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163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164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165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166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167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168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169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170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171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172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173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174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175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176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177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178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179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180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181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182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183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184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185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186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187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188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189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190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191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192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193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194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195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196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197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198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199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200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201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202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203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204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205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206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207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208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209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210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211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212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213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214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215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216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217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218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219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24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16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12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17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13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1035-C6D0-45FD-8A45-D7286BA3F273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325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217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32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224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225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226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227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228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229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230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231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232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233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234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235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236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237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238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239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240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241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242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243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244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245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246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247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248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249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250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251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252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253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254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255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256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257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258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259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260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261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262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263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264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265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266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267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268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269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270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271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272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273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274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275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276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277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278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279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280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281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282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283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284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285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286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287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288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289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290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291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292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293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294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295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296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297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298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299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300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301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302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303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304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305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306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307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308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309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310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311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312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313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314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315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316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317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318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319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320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321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220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21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A12D-E4F8-4891-9674-C808F0BF6D75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rainyquote.com/quotes/quotes/h/henryford106096.html" TargetMode="External"/><Relationship Id="rId2" Type="http://schemas.openxmlformats.org/officeDocument/2006/relationships/hyperlink" Target="http://www.brainyquote.com/quotes/quotes/s/stevejobs126246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37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elco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2590920" y="4952880"/>
            <a:ext cx="6400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Jack Williams, Direct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ivision of National System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304920" y="380880"/>
            <a:ext cx="1600200" cy="1600200"/>
          </a:xfrm>
          <a:prstGeom prst="rect">
            <a:avLst/>
          </a:prstGeom>
          <a:solidFill>
            <a:srgbClr val="9f9d4f"/>
          </a:solidFill>
          <a:ln w="0">
            <a:noFill/>
          </a:ln>
          <a:effectLst>
            <a:outerShdw dist="222200" dir="8939309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CA 3004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Tea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Enjo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Nursing Home MDS – June 1998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ome Health OASIS – August 1999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patient Rehab Facility PAI – January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wing Bed MDS – July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ong Term Care Hospital CDS – October 201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958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otal Assessments (through 04/25/12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DS 2.0/3.0 and SwBed – ~220,0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ASIS –  ~163,5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RF-PAI – ~4,7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verage Monthly Assessments Add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DS 2.0/3.0 and SwBed – ~1,6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ASIS – ~1,1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RF-PAI – ~38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A 3004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l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easu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ublic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ssessment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ealthcare Acquired Infections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duc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eam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ffice of Clinical Standards and Qual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 for Medica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 for Medicaid and CHIP Servi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s for Disease Control and Prevention – CD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You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njoy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Harbor Plac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aryland Science Center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Baltimore Aquariu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Baltimore Maritime Museu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Good Eats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www.baltimore.or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2" marL="10638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spir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lity means doing it right when no one is looking. </a:t>
            </a:r>
            <a:br>
              <a:rPr sz="3200"/>
            </a:br>
            <a:r>
              <a:rPr b="0" lang="en-US" sz="3200" spc="-1" strike="noStrike" u="sng">
                <a:solidFill>
                  <a:srgbClr val="990000"/>
                </a:solidFill>
                <a:uFillTx/>
                <a:latin typeface="Times New Roman"/>
                <a:hlinkClick r:id="rId1"/>
              </a:rPr>
              <a:t>Henry For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e a yardstick of quality. Some people aren't used to an environment where excellence is expected. </a:t>
            </a:r>
            <a:br>
              <a:rPr sz="3200"/>
            </a:br>
            <a:r>
              <a:rPr b="0" lang="en-US" sz="3200" spc="-1" strike="noStrike" u="sng">
                <a:solidFill>
                  <a:srgbClr val="990000"/>
                </a:solidFill>
                <a:uFillTx/>
                <a:latin typeface="Times New Roman"/>
                <a:hlinkClick r:id="rId2"/>
              </a:rPr>
              <a:t>Steve Job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5:18:08Z</dcterms:created>
  <dc:creator>IFMC Employee</dc:creator>
  <dc:description/>
  <dc:language>en-US</dc:language>
  <cp:lastModifiedBy>Jennifer Parrish</cp:lastModifiedBy>
  <dcterms:modified xsi:type="dcterms:W3CDTF">2012-05-11T11:47:03Z</dcterms:modified>
  <cp:revision>65</cp:revision>
  <dc:subject/>
  <dc:title>QIES Year in Review -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55215944</vt:r8>
  </property>
  <property fmtid="{D5CDD505-2E9C-101B-9397-08002B2CF9AE}" pid="3" name="_AuthorEmail">
    <vt:lpwstr>Caroline.Gallaher@cms.hhs.gov</vt:lpwstr>
  </property>
  <property fmtid="{D5CDD505-2E9C-101B-9397-08002B2CF9AE}" pid="4" name="_AuthorEmailDisplayName">
    <vt:lpwstr>Gallaher, Caroline D. (CMS/OCSQ)</vt:lpwstr>
  </property>
  <property fmtid="{D5CDD505-2E9C-101B-9397-08002B2CF9AE}" pid="5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6" name="_NewReviewCycle">
    <vt:lpwstr/>
  </property>
</Properties>
</file>